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F447-4C5A-4390-B752-CDDF1A97B4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7850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31440" y="3702600"/>
            <a:ext cx="87850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6310E-8ABD-480F-9429-1BE18EEE9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3288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31440" y="370260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32880" y="370260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06CB1-1964-4A1C-B822-04E29064B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01800" y="105228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572160" y="105228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31440" y="370260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601800" y="370260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572160" y="370260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2FAB2-4640-4495-8D3D-97FA19095D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31440" y="1052280"/>
            <a:ext cx="878508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メイリオ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7850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4286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32880" y="1052280"/>
            <a:ext cx="4286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31800" y="-27000"/>
            <a:ext cx="7416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メイリオ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32880" y="1052280"/>
            <a:ext cx="4286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1440" y="370260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31440" y="1052280"/>
            <a:ext cx="878508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E3560-FBB8-4FBE-97D2-858A1DE300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4286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3288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32880" y="370260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3288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1440" y="3702600"/>
            <a:ext cx="87850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7850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31440" y="3702600"/>
            <a:ext cx="87850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3288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1440" y="370260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32880" y="370260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01800" y="105228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72160" y="105228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31440" y="370260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01800" y="370260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72160" y="3702600"/>
            <a:ext cx="2828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7850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66D79-6D8F-422A-BB98-A90E8CAE73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4286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2880" y="1052280"/>
            <a:ext cx="4286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E84A8-9088-48DB-8E32-4ACED8E45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D2212-9CBB-4AF6-B445-B059E5A7A5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31800" y="-27000"/>
            <a:ext cx="7416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79E91-0D88-4A06-AB0D-469E94F7D0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32880" y="1052280"/>
            <a:ext cx="4286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440" y="370260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BEDA9-B0C0-4755-82BB-9701FD16C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4286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3288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32880" y="370260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61B44-E628-4178-A5DB-80DCFE5D5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32880" y="1052280"/>
            <a:ext cx="42868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440" y="3702600"/>
            <a:ext cx="87850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E87D7-047D-450D-A6B9-53510F706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0640"/>
            <a:ext cx="9906120" cy="216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24640"/>
            <a:ext cx="9906120" cy="333360"/>
          </a:xfrm>
          <a:prstGeom prst="rect">
            <a:avLst/>
          </a:prstGeom>
          <a:solidFill>
            <a:srgbClr val="000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906120" cy="6922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31440" y="1052280"/>
            <a:ext cx="87850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266760">
              <a:spcBef>
                <a:spcPts val="1250"/>
              </a:spcBef>
              <a:buClr>
                <a:srgbClr val="000000"/>
              </a:buClr>
              <a:buFont typeface="メイリオ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533520">
              <a:spcBef>
                <a:spcPts val="1250"/>
              </a:spcBef>
              <a:buClr>
                <a:srgbClr val="000000"/>
              </a:buClr>
              <a:buFont typeface="メイリオ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1250"/>
              </a:spcBef>
              <a:buClr>
                <a:srgbClr val="000000"/>
              </a:buClr>
              <a:buFont typeface="メイリオ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Font typeface="メイリオ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Font typeface="メイリオ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Font typeface="メイリオ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8481960" y="6597360"/>
            <a:ext cx="14241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メイリオ"/>
                <a:ea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p</a:t>
            </a:r>
            <a:fld id="{BFB3EA78-9A9F-43D8-8D2C-56CD5C5D83BA}" type="slidenum">
              <a:rPr b="1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09440" cy="1009800"/>
            <a:chOff x="0" y="0"/>
            <a:chExt cx="1009440" cy="10098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4360" y="14436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8728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360" y="431640"/>
              <a:ext cx="14436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88720" y="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33080" y="144360"/>
              <a:ext cx="14472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88720" y="28728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33080" y="431640"/>
              <a:ext cx="14472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57636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44360" y="72072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88720" y="57636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865080"/>
              <a:ext cx="14436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76000" y="288720"/>
              <a:ext cx="14472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76000" y="0"/>
              <a:ext cx="14472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20720" y="14436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5080" y="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メイリオ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23" name=""/>
          <p:cNvSpPr/>
          <p:nvPr/>
        </p:nvSpPr>
        <p:spPr>
          <a:xfrm>
            <a:off x="156240" y="6626160"/>
            <a:ext cx="294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Copyright©2011 Digipot.net Copyright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8337600" y="115920"/>
            <a:ext cx="1439640" cy="433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ロゴ、社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ブランド名な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76160" y="1916280"/>
            <a:ext cx="8353440" cy="259236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849240" y="1989000"/>
            <a:ext cx="1009440" cy="1009800"/>
            <a:chOff x="849240" y="1989000"/>
            <a:chExt cx="1009440" cy="1009800"/>
          </a:xfrm>
        </p:grpSpPr>
        <p:sp>
          <p:nvSpPr>
            <p:cNvPr id="63" name=""/>
            <p:cNvSpPr/>
            <p:nvPr/>
          </p:nvSpPr>
          <p:spPr>
            <a:xfrm>
              <a:off x="849240" y="198900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93600" y="213336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49240" y="227628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3600" y="2420640"/>
              <a:ext cx="14436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37960" y="198900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82320" y="2133360"/>
              <a:ext cx="14472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37960" y="227628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82320" y="2420640"/>
              <a:ext cx="14472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49240" y="256536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3600" y="270972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37960" y="256536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49240" y="2854080"/>
              <a:ext cx="14436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25240" y="2277720"/>
              <a:ext cx="14472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25240" y="1989000"/>
              <a:ext cx="14472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69960" y="213336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14320" y="198900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8048520" y="3428640"/>
            <a:ext cx="1009440" cy="1009800"/>
            <a:chOff x="8048520" y="3428640"/>
            <a:chExt cx="1009440" cy="1009800"/>
          </a:xfrm>
        </p:grpSpPr>
        <p:sp>
          <p:nvSpPr>
            <p:cNvPr id="80" name=""/>
            <p:cNvSpPr/>
            <p:nvPr/>
          </p:nvSpPr>
          <p:spPr>
            <a:xfrm rot="10800000">
              <a:off x="8913600" y="429408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0800000">
              <a:off x="8769240" y="414972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0800000">
              <a:off x="8913600" y="400680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0800000">
              <a:off x="8769240" y="3862080"/>
              <a:ext cx="14436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0800000">
              <a:off x="8624880" y="429408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0800000">
              <a:off x="8480160" y="4149720"/>
              <a:ext cx="14472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0800000">
              <a:off x="8624880" y="400680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0800000">
              <a:off x="8480160" y="3862080"/>
              <a:ext cx="14472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0800000">
              <a:off x="8913600" y="371772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0800000">
              <a:off x="8769240" y="357336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0800000">
              <a:off x="8624880" y="371772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0800000">
              <a:off x="8913600" y="3428640"/>
              <a:ext cx="14436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00000">
              <a:off x="8337240" y="4005000"/>
              <a:ext cx="144720" cy="144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00000">
              <a:off x="8337240" y="4294080"/>
              <a:ext cx="14472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0800000">
              <a:off x="8192880" y="414972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0800000">
              <a:off x="8048520" y="4294080"/>
              <a:ext cx="144360" cy="1443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1800" y="2637000"/>
            <a:ext cx="799308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メイリオ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97" name=""/>
          <p:cNvSpPr/>
          <p:nvPr/>
        </p:nvSpPr>
        <p:spPr>
          <a:xfrm>
            <a:off x="156240" y="6626160"/>
            <a:ext cx="294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Copyright©2011 Digipot.net Copyright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メイリオ"/>
              </a:rPr>
              <a:t>Click to edit the outline text format</a:t>
            </a:r>
            <a:endParaRPr b="0" lang="en-US" sz="1400" spc="-1" strike="noStrike">
              <a:solidFill>
                <a:srgbClr val="ffffff"/>
              </a:solidFill>
              <a:latin typeface="メイリオ"/>
            </a:endParaRPr>
          </a:p>
          <a:p>
            <a:pPr lvl="1" marL="26676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メイリオ"/>
            </a:endParaRPr>
          </a:p>
          <a:p>
            <a:pPr lvl="2" marL="533520" algn="ctr">
              <a:spcBef>
                <a:spcPts val="751"/>
              </a:spcBef>
              <a:buClr>
                <a:srgbClr val="000000"/>
              </a:buClr>
              <a:buFont typeface="メイリオ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メイリオ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メイリオ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メイリオ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1800" y="2637000"/>
            <a:ext cx="799308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メイリオ"/>
              </a:rPr>
              <a:t>○○○○</a:t>
            </a:r>
            <a:r>
              <a:rPr b="1" lang="zh-CN" sz="3200" spc="-1" strike="noStrike">
                <a:solidFill>
                  <a:srgbClr val="ffffff"/>
                </a:solidFill>
                <a:latin typeface="メイリオ"/>
              </a:rPr>
              <a:t>ソリューション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メイリオ"/>
              </a:rPr>
              <a:t>ご提案書</a:t>
            </a:r>
            <a:endParaRPr b="1" lang="en-US" sz="32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639800" y="2205000"/>
            <a:ext cx="69343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メイリオ"/>
              </a:rPr>
              <a:t>～○○の悩みを解決する～</a:t>
            </a:r>
            <a:endParaRPr b="0" lang="en-US" sz="1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37" name=""/>
          <p:cNvSpPr/>
          <p:nvPr/>
        </p:nvSpPr>
        <p:spPr>
          <a:xfrm>
            <a:off x="776160" y="580536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株式会社○○○○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6160" y="5013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4880" y="404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株式会社○○○○○ 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17600" y="907920"/>
            <a:ext cx="4464000" cy="2449800"/>
          </a:xfrm>
          <a:prstGeom prst="roundRect">
            <a:avLst>
              <a:gd name="adj" fmla="val 2514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５</a:t>
            </a:r>
            <a:r>
              <a:rPr b="1" lang="en-US" sz="2400" spc="-1" strike="noStrike">
                <a:solidFill>
                  <a:srgbClr val="ffffff"/>
                </a:solidFill>
                <a:latin typeface="メイリオ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導入実績　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31800" y="1052640"/>
            <a:ext cx="4105440" cy="72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</a:rPr>
              <a:t>某企業 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メイリオ"/>
              </a:rPr>
              <a:t>社殿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メイリオ"/>
              </a:rPr>
              <a:t>導入実績について記載する。</a:t>
            </a:r>
            <a:endParaRPr b="0" lang="en-US" sz="1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6" name=""/>
          <p:cNvSpPr/>
          <p:nvPr/>
        </p:nvSpPr>
        <p:spPr>
          <a:xfrm>
            <a:off x="417600" y="3571920"/>
            <a:ext cx="4464000" cy="2449440"/>
          </a:xfrm>
          <a:prstGeom prst="roundRect">
            <a:avLst>
              <a:gd name="adj" fmla="val 2514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1800" y="3716280"/>
            <a:ext cx="410544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某企業 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社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導入実績について記載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97600" y="907920"/>
            <a:ext cx="4464000" cy="2449800"/>
          </a:xfrm>
          <a:prstGeom prst="roundRect">
            <a:avLst>
              <a:gd name="adj" fmla="val 2514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11800" y="1052640"/>
            <a:ext cx="410508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某企業 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社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導入実績について記載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97600" y="3571920"/>
            <a:ext cx="4464000" cy="2449440"/>
          </a:xfrm>
          <a:prstGeom prst="roundRect">
            <a:avLst>
              <a:gd name="adj" fmla="val 2514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11800" y="3716280"/>
            <a:ext cx="410508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某企業 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社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導入実績について記載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47960" y="609300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メイリオ"/>
              </a:rPr>
              <a:t>他にも約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メイリオ"/>
              </a:rPr>
              <a:t>30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メイリオ"/>
              </a:rPr>
              <a:t>件の導入実績がござい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47223-2AB4-4629-83D4-38A99FA8FD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メイリオ"/>
              </a:rPr>
              <a:t>6.</a:t>
            </a: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導入金額概算　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88880" y="974880"/>
          <a:ext cx="9001080" cy="4033800"/>
        </p:xfrm>
        <a:graphic>
          <a:graphicData uri="http://schemas.openxmlformats.org/drawingml/2006/table">
            <a:tbl>
              <a:tblPr/>
              <a:tblGrid>
                <a:gridCol w="655560"/>
                <a:gridCol w="4876920"/>
                <a:gridCol w="1123920"/>
                <a:gridCol w="657360"/>
                <a:gridCol w="1687320"/>
              </a:tblGrid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No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品名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単価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個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税込金額</a:t>
                      </a: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(</a:t>
                      </a:r>
                      <a:r>
                        <a:rPr b="1" lang="zh-CN" sz="9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円</a:t>
                      </a: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製品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,2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2,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製品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,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2,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62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合計金額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5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488880" y="5154480"/>
            <a:ext cx="9001080" cy="432000"/>
          </a:xfrm>
          <a:prstGeom prst="roundRect">
            <a:avLst>
              <a:gd name="adj" fmla="val 1642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05400" y="5187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メイリオ"/>
              </a:rPr>
              <a:t>導入概算金額合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56880" y="5705640"/>
            <a:ext cx="5976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金額は概算の為、実際の見積りとは異なる場合がありますので、ご了承ねがい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お見積りにオプションなどは含まれておりません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お見積りには、梱包、運送費用などは含まれておりません。なお、運送費用は地域により異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ff0000"/>
              </a:buClr>
              <a:buFont typeface="Arial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上記のようにお見積りに関する注意事項を任意で記載し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771320" y="5187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メイリオ"/>
              </a:rPr>
              <a:t>１０５，０００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D116E-2F40-43AB-AC51-D4EF4F01C2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７</a:t>
            </a:r>
            <a:r>
              <a:rPr b="1" lang="en-US" sz="2400" spc="-1" strike="noStrike">
                <a:solidFill>
                  <a:srgbClr val="ffffff"/>
                </a:solidFill>
                <a:latin typeface="メイリオ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お問い合わせ先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210" name=""/>
          <p:cNvSpPr/>
          <p:nvPr/>
        </p:nvSpPr>
        <p:spPr>
          <a:xfrm>
            <a:off x="704880" y="1268280"/>
            <a:ext cx="87850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株式会社◎◎◎コーポレーション　システムサービス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〒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-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東京都世田谷区◎◎◎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丁目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0-0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◎◎◎ビル３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電話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03-0000-XXXX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FAX:03-0000-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http://www.digipot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担当　山田太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携帯　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090-000-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メール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information@xxxxxxxxx.co.j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93FDC-ED31-4077-ABD8-46149F5CAB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はじめに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7850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メイリオ"/>
              </a:rPr>
              <a:t>この度は、ご提案の機会を賜り厚く御礼申し上げます。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メイリオ"/>
              </a:rPr>
              <a:t>（定型文ではなく、会社の得意分野、実績などをアピールする文章を挿入すること）弊社は、この○○分野に於きましては業界でトップシェアを誇り、すでに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メイリオ"/>
              </a:rPr>
              <a:t>社あまりの導入実績がございますので、アフターサポートに関しても自信がございます。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メイリオ"/>
              </a:rPr>
              <a:t>是非、ご提案を採用いただき、弊社にご用命くださいますよう宜しくお願い申し上げます。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メイリオ"/>
              </a:rPr>
              <a:t>株式会社○○○　営業部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5C099-CC8A-4000-B5CA-381DF23A88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目次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31800" y="1052640"/>
          <a:ext cx="8785080" cy="5073480"/>
        </p:xfrm>
        <a:graphic>
          <a:graphicData uri="http://schemas.openxmlformats.org/drawingml/2006/table">
            <a:tbl>
              <a:tblPr/>
              <a:tblGrid>
                <a:gridCol w="5761080"/>
                <a:gridCol w="2232000"/>
                <a:gridCol w="79200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F6458-2144-4074-8073-9A1BA364F7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44520" y="836640"/>
            <a:ext cx="9288360" cy="5545080"/>
          </a:xfrm>
          <a:prstGeom prst="roundRect">
            <a:avLst>
              <a:gd name="adj" fmla="val 2514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１</a:t>
            </a:r>
            <a:r>
              <a:rPr b="1" lang="en-US" sz="2400" spc="-1" strike="noStrike">
                <a:solidFill>
                  <a:srgbClr val="ffffff"/>
                </a:solidFill>
                <a:latin typeface="メイリオ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ご提案のセールスポイント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46" name=""/>
          <p:cNvSpPr/>
          <p:nvPr/>
        </p:nvSpPr>
        <p:spPr>
          <a:xfrm>
            <a:off x="1136520" y="981000"/>
            <a:ext cx="8353440" cy="1656000"/>
          </a:xfrm>
          <a:prstGeom prst="roundRect">
            <a:avLst>
              <a:gd name="adj" fmla="val 824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72880" y="907920"/>
            <a:ext cx="1366920" cy="720720"/>
            <a:chOff x="272880" y="907920"/>
            <a:chExt cx="1366920" cy="720720"/>
          </a:xfrm>
        </p:grpSpPr>
        <p:sp>
          <p:nvSpPr>
            <p:cNvPr id="148" name=""/>
            <p:cNvSpPr/>
            <p:nvPr/>
          </p:nvSpPr>
          <p:spPr>
            <a:xfrm>
              <a:off x="272880" y="907920"/>
              <a:ext cx="1366920" cy="720720"/>
            </a:xfrm>
            <a:custGeom>
              <a:avLst/>
              <a:gdLst>
                <a:gd name="textAreaLeft" fmla="*/ 321120 w 1366920"/>
                <a:gd name="textAreaRight" fmla="*/ 1045800 w 1366920"/>
                <a:gd name="textAreaTop" fmla="*/ 169200 h 720720"/>
                <a:gd name="textAreaBottom" fmla="*/ 55152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54" y="12345"/>
                  </a:lnTo>
                  <a:lnTo>
                    <a:pt x="786" y="14846"/>
                  </a:lnTo>
                  <a:lnTo>
                    <a:pt x="4011" y="15209"/>
                  </a:lnTo>
                  <a:lnTo>
                    <a:pt x="3163" y="18437"/>
                  </a:lnTo>
                  <a:lnTo>
                    <a:pt x="6273" y="17511"/>
                  </a:lnTo>
                  <a:lnTo>
                    <a:pt x="6580" y="20741"/>
                  </a:lnTo>
                  <a:lnTo>
                    <a:pt x="9117" y="18718"/>
                  </a:lnTo>
                  <a:lnTo>
                    <a:pt x="10800" y="21600"/>
                  </a:lnTo>
                  <a:lnTo>
                    <a:pt x="12345" y="18746"/>
                  </a:lnTo>
                  <a:lnTo>
                    <a:pt x="14846" y="20814"/>
                  </a:lnTo>
                  <a:lnTo>
                    <a:pt x="15209" y="17589"/>
                  </a:lnTo>
                  <a:lnTo>
                    <a:pt x="18437" y="18437"/>
                  </a:lnTo>
                  <a:lnTo>
                    <a:pt x="17511" y="15327"/>
                  </a:lnTo>
                  <a:lnTo>
                    <a:pt x="20741" y="15020"/>
                  </a:lnTo>
                  <a:lnTo>
                    <a:pt x="18718" y="12483"/>
                  </a:lnTo>
                  <a:lnTo>
                    <a:pt x="21600" y="10800"/>
                  </a:lnTo>
                  <a:lnTo>
                    <a:pt x="18746" y="9255"/>
                  </a:lnTo>
                  <a:lnTo>
                    <a:pt x="20814" y="6754"/>
                  </a:lnTo>
                  <a:lnTo>
                    <a:pt x="17589" y="6391"/>
                  </a:lnTo>
                  <a:lnTo>
                    <a:pt x="18437" y="3163"/>
                  </a:lnTo>
                  <a:lnTo>
                    <a:pt x="15327" y="4089"/>
                  </a:lnTo>
                  <a:lnTo>
                    <a:pt x="15020" y="859"/>
                  </a:lnTo>
                  <a:lnTo>
                    <a:pt x="12483" y="2882"/>
                  </a:lnTo>
                  <a:lnTo>
                    <a:pt x="10800" y="0"/>
                  </a:lnTo>
                  <a:lnTo>
                    <a:pt x="9255" y="2854"/>
                  </a:lnTo>
                  <a:lnTo>
                    <a:pt x="6754" y="786"/>
                  </a:lnTo>
                  <a:lnTo>
                    <a:pt x="6391" y="4011"/>
                  </a:lnTo>
                  <a:lnTo>
                    <a:pt x="3163" y="3163"/>
                  </a:lnTo>
                  <a:lnTo>
                    <a:pt x="4089" y="6273"/>
                  </a:lnTo>
                  <a:lnTo>
                    <a:pt x="859" y="6580"/>
                  </a:lnTo>
                  <a:lnTo>
                    <a:pt x="2882" y="911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560520" y="1125360"/>
              <a:ext cx="863640" cy="21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</a:rPr>
                <a:t>ココがスゴイ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メイリオ"/>
                <a:ea typeface="メイリオ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136520" y="2781360"/>
            <a:ext cx="8353440" cy="1655640"/>
          </a:xfrm>
          <a:prstGeom prst="roundRect">
            <a:avLst>
              <a:gd name="adj" fmla="val 824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36520" y="4581360"/>
            <a:ext cx="8353440" cy="1656000"/>
          </a:xfrm>
          <a:prstGeom prst="roundRect">
            <a:avLst>
              <a:gd name="adj" fmla="val 824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72880" y="2852640"/>
            <a:ext cx="1366920" cy="720720"/>
            <a:chOff x="272880" y="2852640"/>
            <a:chExt cx="1366920" cy="720720"/>
          </a:xfrm>
        </p:grpSpPr>
        <p:sp>
          <p:nvSpPr>
            <p:cNvPr id="153" name=""/>
            <p:cNvSpPr/>
            <p:nvPr/>
          </p:nvSpPr>
          <p:spPr>
            <a:xfrm>
              <a:off x="272880" y="2852640"/>
              <a:ext cx="1366920" cy="720720"/>
            </a:xfrm>
            <a:custGeom>
              <a:avLst/>
              <a:gdLst>
                <a:gd name="textAreaLeft" fmla="*/ 321120 w 1366920"/>
                <a:gd name="textAreaRight" fmla="*/ 1045800 w 1366920"/>
                <a:gd name="textAreaTop" fmla="*/ 169200 h 720720"/>
                <a:gd name="textAreaBottom" fmla="*/ 55152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54" y="12345"/>
                  </a:lnTo>
                  <a:lnTo>
                    <a:pt x="786" y="14846"/>
                  </a:lnTo>
                  <a:lnTo>
                    <a:pt x="4011" y="15209"/>
                  </a:lnTo>
                  <a:lnTo>
                    <a:pt x="3163" y="18437"/>
                  </a:lnTo>
                  <a:lnTo>
                    <a:pt x="6273" y="17511"/>
                  </a:lnTo>
                  <a:lnTo>
                    <a:pt x="6580" y="20741"/>
                  </a:lnTo>
                  <a:lnTo>
                    <a:pt x="9117" y="18718"/>
                  </a:lnTo>
                  <a:lnTo>
                    <a:pt x="10800" y="21600"/>
                  </a:lnTo>
                  <a:lnTo>
                    <a:pt x="12345" y="18746"/>
                  </a:lnTo>
                  <a:lnTo>
                    <a:pt x="14846" y="20814"/>
                  </a:lnTo>
                  <a:lnTo>
                    <a:pt x="15209" y="17589"/>
                  </a:lnTo>
                  <a:lnTo>
                    <a:pt x="18437" y="18437"/>
                  </a:lnTo>
                  <a:lnTo>
                    <a:pt x="17511" y="15327"/>
                  </a:lnTo>
                  <a:lnTo>
                    <a:pt x="20741" y="15020"/>
                  </a:lnTo>
                  <a:lnTo>
                    <a:pt x="18718" y="12483"/>
                  </a:lnTo>
                  <a:lnTo>
                    <a:pt x="21600" y="10800"/>
                  </a:lnTo>
                  <a:lnTo>
                    <a:pt x="18746" y="9255"/>
                  </a:lnTo>
                  <a:lnTo>
                    <a:pt x="20814" y="6754"/>
                  </a:lnTo>
                  <a:lnTo>
                    <a:pt x="17589" y="6391"/>
                  </a:lnTo>
                  <a:lnTo>
                    <a:pt x="18437" y="3163"/>
                  </a:lnTo>
                  <a:lnTo>
                    <a:pt x="15327" y="4089"/>
                  </a:lnTo>
                  <a:lnTo>
                    <a:pt x="15020" y="859"/>
                  </a:lnTo>
                  <a:lnTo>
                    <a:pt x="12483" y="2882"/>
                  </a:lnTo>
                  <a:lnTo>
                    <a:pt x="10800" y="0"/>
                  </a:lnTo>
                  <a:lnTo>
                    <a:pt x="9255" y="2854"/>
                  </a:lnTo>
                  <a:lnTo>
                    <a:pt x="6754" y="786"/>
                  </a:lnTo>
                  <a:lnTo>
                    <a:pt x="6391" y="4011"/>
                  </a:lnTo>
                  <a:lnTo>
                    <a:pt x="3163" y="3163"/>
                  </a:lnTo>
                  <a:lnTo>
                    <a:pt x="4089" y="6273"/>
                  </a:lnTo>
                  <a:lnTo>
                    <a:pt x="859" y="6580"/>
                  </a:lnTo>
                  <a:lnTo>
                    <a:pt x="2882" y="911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560520" y="3070080"/>
              <a:ext cx="863640" cy="21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</a:rPr>
                <a:t>ココがスゴイ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00160" y="4653000"/>
            <a:ext cx="1366560" cy="720720"/>
            <a:chOff x="200160" y="4653000"/>
            <a:chExt cx="1366560" cy="720720"/>
          </a:xfrm>
        </p:grpSpPr>
        <p:sp>
          <p:nvSpPr>
            <p:cNvPr id="156" name=""/>
            <p:cNvSpPr/>
            <p:nvPr/>
          </p:nvSpPr>
          <p:spPr>
            <a:xfrm>
              <a:off x="200160" y="4653000"/>
              <a:ext cx="1366560" cy="720720"/>
            </a:xfrm>
            <a:custGeom>
              <a:avLst/>
              <a:gdLst>
                <a:gd name="textAreaLeft" fmla="*/ 321120 w 1366560"/>
                <a:gd name="textAreaRight" fmla="*/ 1045440 w 1366560"/>
                <a:gd name="textAreaTop" fmla="*/ 169200 h 720720"/>
                <a:gd name="textAreaBottom" fmla="*/ 55152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54" y="12345"/>
                  </a:lnTo>
                  <a:lnTo>
                    <a:pt x="786" y="14846"/>
                  </a:lnTo>
                  <a:lnTo>
                    <a:pt x="4011" y="15209"/>
                  </a:lnTo>
                  <a:lnTo>
                    <a:pt x="3163" y="18437"/>
                  </a:lnTo>
                  <a:lnTo>
                    <a:pt x="6273" y="17511"/>
                  </a:lnTo>
                  <a:lnTo>
                    <a:pt x="6580" y="20741"/>
                  </a:lnTo>
                  <a:lnTo>
                    <a:pt x="9117" y="18718"/>
                  </a:lnTo>
                  <a:lnTo>
                    <a:pt x="10800" y="21600"/>
                  </a:lnTo>
                  <a:lnTo>
                    <a:pt x="12345" y="18746"/>
                  </a:lnTo>
                  <a:lnTo>
                    <a:pt x="14846" y="20814"/>
                  </a:lnTo>
                  <a:lnTo>
                    <a:pt x="15209" y="17589"/>
                  </a:lnTo>
                  <a:lnTo>
                    <a:pt x="18437" y="18437"/>
                  </a:lnTo>
                  <a:lnTo>
                    <a:pt x="17511" y="15327"/>
                  </a:lnTo>
                  <a:lnTo>
                    <a:pt x="20741" y="15020"/>
                  </a:lnTo>
                  <a:lnTo>
                    <a:pt x="18718" y="12483"/>
                  </a:lnTo>
                  <a:lnTo>
                    <a:pt x="21600" y="10800"/>
                  </a:lnTo>
                  <a:lnTo>
                    <a:pt x="18746" y="9255"/>
                  </a:lnTo>
                  <a:lnTo>
                    <a:pt x="20814" y="6754"/>
                  </a:lnTo>
                  <a:lnTo>
                    <a:pt x="17589" y="6391"/>
                  </a:lnTo>
                  <a:lnTo>
                    <a:pt x="18437" y="3163"/>
                  </a:lnTo>
                  <a:lnTo>
                    <a:pt x="15327" y="4089"/>
                  </a:lnTo>
                  <a:lnTo>
                    <a:pt x="15020" y="859"/>
                  </a:lnTo>
                  <a:lnTo>
                    <a:pt x="12483" y="2882"/>
                  </a:lnTo>
                  <a:lnTo>
                    <a:pt x="10800" y="0"/>
                  </a:lnTo>
                  <a:lnTo>
                    <a:pt x="9255" y="2854"/>
                  </a:lnTo>
                  <a:lnTo>
                    <a:pt x="6754" y="786"/>
                  </a:lnTo>
                  <a:lnTo>
                    <a:pt x="6391" y="4011"/>
                  </a:lnTo>
                  <a:lnTo>
                    <a:pt x="3163" y="3163"/>
                  </a:lnTo>
                  <a:lnTo>
                    <a:pt x="4089" y="6273"/>
                  </a:lnTo>
                  <a:lnTo>
                    <a:pt x="859" y="6580"/>
                  </a:lnTo>
                  <a:lnTo>
                    <a:pt x="2882" y="911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487440" y="4870440"/>
              <a:ext cx="863280" cy="21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</a:rPr>
                <a:t>ココがスゴイ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メイリオ"/>
                <a:ea typeface="メイリオ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920960" y="10526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セールスポイ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20960" y="292428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セールスポイ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20960" y="472428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セールスポイ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0D7A7-95D0-403B-90FA-8E619DEC50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44520" y="836640"/>
            <a:ext cx="9288360" cy="5545080"/>
          </a:xfrm>
          <a:prstGeom prst="roundRect">
            <a:avLst>
              <a:gd name="adj" fmla="val 2514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２</a:t>
            </a:r>
            <a:r>
              <a:rPr b="1" lang="en-US" sz="2400" spc="-1" strike="noStrike">
                <a:solidFill>
                  <a:srgbClr val="ffffff"/>
                </a:solidFill>
                <a:latin typeface="メイリオ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ソリューションの概要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7850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</a:rPr>
              <a:t>全体の概要を説明。（ここでは、どういうソリューションなのかを簡単に説明する。）文字だけは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NG</a:t>
            </a:r>
            <a:r>
              <a:rPr b="0" lang="zh-CN" sz="2000" spc="-1" strike="noStrike">
                <a:solidFill>
                  <a:srgbClr val="000000"/>
                </a:solidFill>
                <a:latin typeface="メイリオ"/>
              </a:rPr>
              <a:t>必ず図を挿入すること。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4" name=""/>
          <p:cNvSpPr/>
          <p:nvPr/>
        </p:nvSpPr>
        <p:spPr>
          <a:xfrm>
            <a:off x="560520" y="2852640"/>
            <a:ext cx="8856360" cy="331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概要図を挿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1D82D-6205-480B-98E0-CB33DCCB29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２</a:t>
            </a:r>
            <a:r>
              <a:rPr b="1" lang="en-US" sz="2400" spc="-1" strike="noStrike">
                <a:solidFill>
                  <a:srgbClr val="ffffff"/>
                </a:solidFill>
                <a:latin typeface="メイリオ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ソリューションの概要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66" name=""/>
          <p:cNvSpPr/>
          <p:nvPr/>
        </p:nvSpPr>
        <p:spPr>
          <a:xfrm>
            <a:off x="1307520" y="83664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333399"/>
                </a:solidFill>
                <a:uFillTx/>
                <a:latin typeface="Arial"/>
              </a:rPr>
              <a:t>２－１．システム構成（任意のタイトル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2160" y="1341000"/>
            <a:ext cx="842472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メイリオ"/>
              </a:rPr>
              <a:t>詳細を記載。</a:t>
            </a:r>
            <a:endParaRPr b="0" lang="en-US" sz="16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D37C1-8DC9-4B17-A5A7-E2FFF447C8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２</a:t>
            </a:r>
            <a:r>
              <a:rPr b="1" lang="en-US" sz="2400" spc="-1" strike="noStrike">
                <a:solidFill>
                  <a:srgbClr val="ffffff"/>
                </a:solidFill>
                <a:latin typeface="メイリオ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ソリューションの概要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69" name=""/>
          <p:cNvSpPr/>
          <p:nvPr/>
        </p:nvSpPr>
        <p:spPr>
          <a:xfrm>
            <a:off x="1384200" y="83664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333399"/>
                </a:solidFill>
                <a:uFillTx/>
                <a:latin typeface="Arial"/>
              </a:rPr>
              <a:t>２－２．ソリューションの体系（任意のタイトル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2160" y="1341000"/>
            <a:ext cx="84247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</a:rPr>
              <a:t>詳細を記載。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71" name=""/>
          <p:cNvSpPr/>
          <p:nvPr/>
        </p:nvSpPr>
        <p:spPr>
          <a:xfrm>
            <a:off x="920880" y="580536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必要に応じて追記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DB196-9A17-4E37-89CD-C2A24B5B77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44520" y="836640"/>
            <a:ext cx="9288360" cy="5545080"/>
          </a:xfrm>
          <a:prstGeom prst="roundRect">
            <a:avLst>
              <a:gd name="adj" fmla="val 2514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３</a:t>
            </a:r>
            <a:r>
              <a:rPr b="1" lang="en-US" sz="2400" spc="-1" strike="noStrike">
                <a:solidFill>
                  <a:srgbClr val="ffffff"/>
                </a:solidFill>
                <a:latin typeface="メイリオ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メンテナンスとアフターサービスについて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7850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</a:rPr>
              <a:t>概要を説明。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F621D-1F1F-4559-B1F2-5DADE87880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44520" y="981000"/>
            <a:ext cx="4608360" cy="5400720"/>
          </a:xfrm>
          <a:custGeom>
            <a:avLst/>
            <a:gdLst>
              <a:gd name="textAreaLeft" fmla="*/ 33840 w 4608360"/>
              <a:gd name="textAreaRight" fmla="*/ 4574520 w 4608360"/>
              <a:gd name="textAreaTop" fmla="*/ 33840 h 5400720"/>
              <a:gd name="textAreaBottom" fmla="*/ 5366880 h 5400720"/>
            </a:gdLst>
            <a:ahLst/>
            <a:rect l="textAreaLeft" t="textAreaTop" r="textAreaRight" b="textAreaBottom"/>
            <a:pathLst>
              <a:path w="21600" h="25314">
                <a:moveTo>
                  <a:pt x="543" y="0"/>
                </a:moveTo>
                <a:arcTo wR="543" hR="543" stAng="16200000" swAng="-5400000"/>
                <a:lnTo>
                  <a:pt x="0" y="24771"/>
                </a:lnTo>
                <a:arcTo wR="543" hR="543" stAng="10800000" swAng="-5400000"/>
                <a:lnTo>
                  <a:pt x="21057" y="25314"/>
                </a:lnTo>
                <a:arcTo wR="543" hR="543" stAng="5400000" swAng="-5400000"/>
                <a:lnTo>
                  <a:pt x="21600" y="543"/>
                </a:lnTo>
                <a:arcTo wR="543" hR="543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31800" y="-27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４</a:t>
            </a:r>
            <a:r>
              <a:rPr b="1" lang="en-US" sz="2400" spc="-1" strike="noStrike">
                <a:solidFill>
                  <a:srgbClr val="ffffff"/>
                </a:solidFill>
                <a:latin typeface="メイリオ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メイリオ"/>
              </a:rPr>
              <a:t>導入のメリットとデメリット</a:t>
            </a:r>
            <a:endParaRPr b="1" lang="en-US" sz="24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981000"/>
            <a:ext cx="4608720" cy="5400720"/>
          </a:xfrm>
          <a:custGeom>
            <a:avLst/>
            <a:gdLst>
              <a:gd name="textAreaLeft" fmla="*/ 33840 w 4608720"/>
              <a:gd name="textAreaRight" fmla="*/ 4574880 w 4608720"/>
              <a:gd name="textAreaTop" fmla="*/ 33840 h 5400720"/>
              <a:gd name="textAreaBottom" fmla="*/ 5366880 h 5400720"/>
            </a:gdLst>
            <a:ahLst/>
            <a:rect l="textAreaLeft" t="textAreaTop" r="textAreaRight" b="textAreaBottom"/>
            <a:pathLst>
              <a:path w="21600" h="25312">
                <a:moveTo>
                  <a:pt x="543" y="0"/>
                </a:moveTo>
                <a:arcTo wR="543" hR="543" stAng="16200000" swAng="-5400000"/>
                <a:lnTo>
                  <a:pt x="0" y="24769"/>
                </a:lnTo>
                <a:arcTo wR="543" hR="543" stAng="10800000" swAng="-5400000"/>
                <a:lnTo>
                  <a:pt x="21057" y="25312"/>
                </a:lnTo>
                <a:arcTo wR="543" hR="543" stAng="5400000" swAng="-5400000"/>
                <a:lnTo>
                  <a:pt x="21600" y="543"/>
                </a:lnTo>
                <a:arcTo wR="543" hR="543" stAng="0" swAng="-5400000"/>
                <a:close/>
              </a:path>
            </a:pathLst>
          </a:cu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553600" y="836640"/>
            <a:ext cx="1079280" cy="1079640"/>
          </a:xfrm>
          <a:prstGeom prst="ellipse">
            <a:avLst/>
          </a:prstGeom>
          <a:solidFill>
            <a:srgbClr val="ff99cc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857240" y="909720"/>
            <a:ext cx="1944720" cy="5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63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メイリオ"/>
              </a:rPr>
              <a:t>メリット</a:t>
            </a:r>
            <a:endParaRPr b="1" lang="en-US" sz="1800" spc="1" strike="noStrike">
              <a:ln w="63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メイリオ"/>
              <a:ea typeface="メイリオ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961240" y="836640"/>
            <a:ext cx="1944360" cy="5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63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メイリオ"/>
              </a:rPr>
              <a:t>デメリット</a:t>
            </a:r>
            <a:endParaRPr b="1" lang="en-US" sz="1800" spc="1" strike="noStrike">
              <a:ln w="63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メイリオ"/>
              <a:ea typeface="メイリオ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72880" y="836640"/>
            <a:ext cx="1079640" cy="1079640"/>
            <a:chOff x="272880" y="836640"/>
            <a:chExt cx="1079640" cy="1079640"/>
          </a:xfrm>
        </p:grpSpPr>
        <p:sp>
          <p:nvSpPr>
            <p:cNvPr id="182" name=""/>
            <p:cNvSpPr/>
            <p:nvPr/>
          </p:nvSpPr>
          <p:spPr>
            <a:xfrm>
              <a:off x="272880" y="836640"/>
              <a:ext cx="1079640" cy="1079640"/>
            </a:xfrm>
            <a:prstGeom prst="ellipse">
              <a:avLst/>
            </a:prstGeom>
            <a:solidFill>
              <a:srgbClr val="ffff99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0520" y="1125360"/>
              <a:ext cx="144360" cy="287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20880" y="1125360"/>
              <a:ext cx="144360" cy="287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0800000">
              <a:off x="560520" y="1197000"/>
              <a:ext cx="504720" cy="504720"/>
            </a:xfrm>
            <a:prstGeom prst="blockArc">
              <a:avLst>
                <a:gd name="adj1" fmla="val 11884476"/>
                <a:gd name="adj2" fmla="val 20515524"/>
                <a:gd name="adj3" fmla="val 1857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697960" y="1197000"/>
            <a:ext cx="792000" cy="216000"/>
            <a:chOff x="8697960" y="1197000"/>
            <a:chExt cx="792000" cy="216000"/>
          </a:xfrm>
        </p:grpSpPr>
        <p:sp>
          <p:nvSpPr>
            <p:cNvPr id="187" name=""/>
            <p:cNvSpPr/>
            <p:nvPr/>
          </p:nvSpPr>
          <p:spPr>
            <a:xfrm>
              <a:off x="8697960" y="1197000"/>
              <a:ext cx="330480" cy="216000"/>
            </a:xfrm>
            <a:custGeom>
              <a:avLst/>
              <a:gdLst/>
              <a:ahLst/>
              <a:rect l="l" t="t" r="r" b="b"/>
              <a:pathLst>
                <a:path w="227" h="136">
                  <a:moveTo>
                    <a:pt x="0" y="0"/>
                  </a:moveTo>
                  <a:lnTo>
                    <a:pt x="227" y="45"/>
                  </a:lnTo>
                  <a:lnTo>
                    <a:pt x="45" y="136"/>
                  </a:lnTo>
                </a:path>
              </a:pathLst>
            </a:custGeom>
            <a:noFill/>
            <a:ln w="63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9159480" y="1197000"/>
              <a:ext cx="330480" cy="216000"/>
            </a:xfrm>
            <a:custGeom>
              <a:avLst/>
              <a:gdLst/>
              <a:ahLst/>
              <a:rect l="l" t="t" r="r" b="b"/>
              <a:pathLst>
                <a:path w="227" h="136">
                  <a:moveTo>
                    <a:pt x="0" y="0"/>
                  </a:moveTo>
                  <a:lnTo>
                    <a:pt x="227" y="45"/>
                  </a:lnTo>
                  <a:lnTo>
                    <a:pt x="45" y="136"/>
                  </a:lnTo>
                </a:path>
              </a:pathLst>
            </a:custGeom>
            <a:noFill/>
            <a:ln w="63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31800" y="2060280"/>
            <a:ext cx="410544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1250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</a:rPr>
              <a:t>メリット１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marL="271440" indent="-271440">
              <a:spcBef>
                <a:spcPts val="1250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</a:rPr>
              <a:t>メリット２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marL="271440" indent="-271440">
              <a:spcBef>
                <a:spcPts val="1250"/>
              </a:spcBef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メイリオ"/>
              </a:rPr>
              <a:t>メリット３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0" name=""/>
          <p:cNvSpPr/>
          <p:nvPr/>
        </p:nvSpPr>
        <p:spPr>
          <a:xfrm>
            <a:off x="5240160" y="2060640"/>
            <a:ext cx="410544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メイリオ"/>
                <a:ea typeface="メイリオ"/>
              </a:rPr>
              <a:t>デメリット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メイリオ"/>
                <a:ea typeface="メイリオ"/>
              </a:rPr>
              <a:t>デメリット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メイリオ"/>
                <a:ea typeface="メイリオ"/>
              </a:rPr>
              <a:t>デメリット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857240" y="909720"/>
            <a:ext cx="1944720" cy="5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ff"/>
                </a:solidFill>
                <a:latin typeface="メイリオ"/>
              </a:rPr>
              <a:t>メリット</a:t>
            </a:r>
            <a:endParaRPr b="1" lang="en-US" sz="1800" spc="1" strike="noStrike">
              <a:ln w="0">
                <a:noFill/>
              </a:ln>
              <a:solidFill>
                <a:srgbClr val="3366ff"/>
              </a:solidFill>
              <a:latin typeface="メイリオ"/>
              <a:ea typeface="メイリオ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961240" y="836640"/>
            <a:ext cx="1944360" cy="5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800000"/>
                </a:solidFill>
                <a:latin typeface="メイリオ"/>
              </a:rPr>
              <a:t>デメリット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latin typeface="メイリオ"/>
              <a:ea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903F6-C4B0-4F04-AD6B-7D9108A369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6:04:25Z</dcterms:created>
  <dc:creator>http://www.digipot.net</dc:creator>
  <dc:description/>
  <cp:keywords>提案書 企画書</cp:keywords>
  <dc:language>en-US</dc:language>
  <cp:lastModifiedBy>http://www.digipot.net</cp:lastModifiedBy>
  <dcterms:modified xsi:type="dcterms:W3CDTF">2011-10-24T05:44:20Z</dcterms:modified>
  <cp:revision>1</cp:revision>
  <dc:subject>PPT090_提案書テンプレート</dc:subject>
  <dc:title>PPT090_提案書テンプレート</dc:title>
</cp:coreProperties>
</file>